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498C-24F0-4AF1-9D94-341F222C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063F-BF55-4989-A466-6A23C84A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C3D2-2D48-4689-B4A5-F0A8EEEB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162A-E6DF-421C-B8C5-F74F95038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77DA-B8D1-4C05-B051-57EDC423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C7EA-E4FC-4793-95C7-79214953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7F8B-D122-4340-A538-D29A4FE8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16B5-4448-4A5F-8FCA-44B29423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835B-844D-436D-9A9A-DF432B95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C842-57BE-40D8-8503-B39436DA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1762-7361-4C22-BB8F-5B1352DD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D7FE-22D0-4453-A716-5BF86C58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A8CA-4399-4E94-93BD-F993D0D6C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60360" y="212760"/>
            <a:ext cx="8748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Bookman Old Style"/>
              </a:rPr>
              <a:t>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Господнята събота св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настава отново за нас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Днес нек всяка твар на земята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се радва на Бога в захлас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И във тихия нежен ветр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и в бурята говори Той;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ах да можех проумя днес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що казва ми с това Бог мой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Напред или назад в живота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наказва, прощава - все Той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Греша ли, със смърт м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заплашва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но пък и Спасител е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800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80800" y="384480"/>
            <a:ext cx="6804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Сърцето ми в тоз ден възпява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делата на Бога пресвят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Днес Господ Исус ми дарява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особената благодат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Над звезди, ветрове и бури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Ти, Боже, Си сам Господар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И те заедно със морето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Теб славят - свой Бог и свой Цар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Земята, небето Ти пеят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във тоз ден, от Теб осветен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Прославя Те Твоето дело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що свършено бе в седмий де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86600" y="400320"/>
            <a:ext cx="66333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Щом земната мисия свърши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почина Си в събота Спас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За всички спасени знак вечен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направена бе тя тогаз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И днес ми обещава радост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блаженство Спасителят мой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Той кани ме в тоз ден на святост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да дойда във пълен покой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Събира Той людете Свои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Свой знак слага им на чело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в небесен покой Той ги води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200" spc="-1" strike="noStrike">
                <a:solidFill>
                  <a:srgbClr val="ffffff"/>
                </a:solidFill>
                <a:latin typeface="Times New Roman"/>
              </a:rPr>
              <a:t>в един дух и в едно те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9000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5:10:45Z</dcterms:created>
  <dc:creator>TrifonTrifonow</dc:creator>
  <dc:description/>
  <dc:language>en-US</dc:language>
  <cp:lastModifiedBy>TrifonTrifonow</cp:lastModifiedBy>
  <dcterms:modified xsi:type="dcterms:W3CDTF">2005-11-21T14:12:13Z</dcterms:modified>
  <cp:revision>9</cp:revision>
  <dc:subject/>
  <dc:title>Slide 1</dc:title>
</cp:coreProperties>
</file>